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713-642B-4EF5-BD27-79DA442A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E2D-DAE1-4FAB-B4D0-C2E6C2B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D89-08C3-4C6A-B1C4-3995F537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7ED-5BAE-4E7E-9F43-4A95C719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A69C-58FD-48AB-82EE-71CA0F51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B7D-06C2-4848-AEEC-77BA44B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B298-FFB9-439F-AF85-4B33D9B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ADA-D64E-43F3-8CBA-E5A3C722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572-9777-4C31-A64C-4BAAD9ED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C73E-DABA-492E-A80E-397C614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1278-CF81-49AC-AB41-B534809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94C-EE47-4E32-8D84-D1382917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CB7-2E9A-4522-A11C-3A09B34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D25B-5DDC-47EF-8CE0-31CAB38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87E-B336-4E30-8193-D330B2D8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BF30-2F87-494D-AF08-62655832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E37-3A16-4D89-98A2-A917C39B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530-A832-4F5A-B131-F4EE863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54E-18D7-48B5-9CEB-DCD9CF2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DE0-7979-40DB-83FA-8408FDC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F49-2BF6-4C9D-80C6-0C6AC02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E30-AB66-4A37-AAA0-509E882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B42-2E80-4FEF-A0DC-8459AA9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3D1-F462-484B-B2B1-EFD1F99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F8D-8E3B-43C1-BCD6-7010384616F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890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381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4920" y="65088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JM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88E-5A8D-4761-A3BE-AE91595F685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MA 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UENTO DE LA LECH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EDADES TEXTU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ARTA COMERC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tas entre las empresas, empresas y particulares o viceve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CIRC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do escrito del que se hacen tantas copias como enví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 LAS CARTAS COMERCIALES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 de s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males: ni cultas ni coloqu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rrectas: respetan la gramática y ortografí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as: sintaxis sencill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uales: sin arcaís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cráticas: sin discrimin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conómicas: no larg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TIPOS </a:t>
            </a:r>
            <a:br>
              <a:rPr sz="5100"/>
            </a:br>
            <a:r>
              <a:rPr b="0" lang="en-US" sz="5100" spc="-1" strike="noStrike">
                <a:solidFill>
                  <a:srgbClr val="006633"/>
                </a:solidFill>
                <a:latin typeface="Garamond"/>
              </a:rPr>
              <a:t>DE CARTAS COMERCIALES </a:t>
            </a:r>
            <a:endParaRPr b="0" lang="en-US" sz="5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rtas y publicidad de product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lamaciones a empresas o particula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ed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RUCTURA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 UNA CARTA COMER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Present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atos de la persona o empresa que emite la ca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ugar y fe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destinata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uerp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nto a trat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ped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Cier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mbre del remit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33"/>
                </a:solidFill>
                <a:latin typeface="Arial"/>
              </a:rPr>
              <a:t>Notas, anexos, catálogos adju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13:31Z</dcterms:created>
  <dc:creator>AUDIOLEASK</dc:creator>
  <dc:description/>
  <dc:language>en-US</dc:language>
  <cp:lastModifiedBy>AUDIOLEASK</cp:lastModifiedBy>
  <dcterms:modified xsi:type="dcterms:W3CDTF">2014-02-20T20:08:27Z</dcterms:modified>
  <cp:revision>6</cp:revision>
  <dc:subject/>
  <dc:title>TEMA 7</dc:title>
</cp:coreProperties>
</file>